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BCC-4D4B-4572-852B-847EF3A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BE9-108C-464F-961F-C4D6ED7A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BB3-D60C-4AA8-A7FE-01914061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D52-5DC9-436F-85A7-161A52E2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FE95-062B-4EDB-A390-A5EBEE59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18CD-7AC9-47B5-9760-8815FCBC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F176-F508-433D-82FC-5989B30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C08F-A38D-4F1B-94B9-D26FAF3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490-B8ED-4485-A93B-F189760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816-3ABE-4B61-8957-3D9D64EC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51A-D646-48E1-8BD5-5C8A19D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FC6-B973-4572-B5B1-FCAF3456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334F-E2BC-4DE1-B5AA-31FA01B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4CB2-F212-4D92-8EAB-0358D26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3230-6203-42A9-AEAE-87948B1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75D7-AB4C-4D23-A035-A7533B97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7B56-9241-4834-B2D6-A7956486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D80-FD96-42A8-B969-FB82C7FC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E53-D6AF-4504-92CF-16E4F1C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C20-DBC4-407C-AB99-7C103BF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593-489C-4344-9AE6-80EEC54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864-CCEC-4923-9DE1-8F4FFE4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5E3-51A7-4556-A2D8-76AAC7F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361-3D6C-40F6-8EFC-14D70253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6AC-13C7-41CA-BA69-EA4288D30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8CEB-61F8-48EF-97E6-885E9496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iki.esipfed.org/index.php/Air_Quality_Cluster" TargetMode="External"/><Relationship Id="rId3" Type="http://schemas.openxmlformats.org/officeDocument/2006/relationships/hyperlink" Target="http://wiki.esipfed.org/index.php/Air_Quality_Cluster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Workshop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8195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ir Quality Cluste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9907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8120" y="30492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.esipfed.org/index.php/Air_Quality_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erve a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ilitator and advis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Earth scie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formation commun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Promot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from collection to end-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mprove usability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and information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pand the u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information – get it to the decision-ma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ucate the 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bout Earth science and science information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657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191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4040" y="4191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2362320" cy="16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495680"/>
            <a:ext cx="222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Q Cluster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builds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links</a:t>
            </a: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ng groups in order to achieve an effective use of data in decision-making that could not be achieved by any organization acting on its ow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124080"/>
            <a:ext cx="8915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nect air quality data consumers and data produc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ringing people and ideas together for delivering earth science data to AQ researchers, managers and other users/consum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acilitate and demonstrate information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low from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ata providers to AQ consumer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334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1400" y="5334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56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759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6600" y="64008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120" y="6170760"/>
            <a:ext cx="244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648320"/>
            <a:ext cx="2362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724280"/>
            <a:ext cx="2438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AQ Cluster aids in </a:t>
            </a:r>
            <a:r>
              <a:rPr b="1" i="1" lang="en-US" sz="1300" spc="-1" strike="noStrike" u="sng">
                <a:solidFill>
                  <a:srgbClr val="cc0000"/>
                </a:solidFill>
                <a:uFillTx/>
                <a:latin typeface="Verdana"/>
              </a:rPr>
              <a:t>reuse</a:t>
            </a: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 of data, processing tools and other services </a:t>
            </a:r>
            <a:r>
              <a:rPr b="0" lang="en-US" sz="1300" spc="-1" strike="noStrike">
                <a:solidFill>
                  <a:srgbClr val="800000"/>
                </a:solidFill>
                <a:latin typeface="Verdana"/>
              </a:rPr>
              <a:t>acros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jects, programs and agenci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9400" y="4191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7120" y="5334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2209680" cy="71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581280" y="5715000"/>
            <a:ext cx="2210040" cy="42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luster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00960" y="83808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a coordination/collaboration forum for follow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7696080" cy="4495680"/>
        </p:xfrm>
        <a:graphic>
          <a:graphicData uri="http://schemas.openxmlformats.org/drawingml/2006/table">
            <a:tbl>
              <a:tblPr/>
              <a:tblGrid>
                <a:gridCol w="2590920"/>
                <a:gridCol w="5105160"/>
              </a:tblGrid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uster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Q Data Su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 workspace, ESIP pro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SS Architecture Implementation Pi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enario input, wiki workspace, telecon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NOX Data Synthesis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development and coordination, group preparations, wiki, suggestions for standards-based interoperability between OMI providers and AQ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.Cal Smoke Wi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, contributed smoke data/analysis web 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Sp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on wiki, metadata aggregation, provide content, discussions on design; coordination with educational DataShe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6212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terac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SF proposal coordination, NASA proposal submissions, data lineage design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20444" r="41245" b="4009"/>
          <a:stretch/>
        </p:blipFill>
        <p:spPr>
          <a:xfrm>
            <a:off x="228600" y="2133720"/>
            <a:ext cx="4572000" cy="34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Centric Workspac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ataSpac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809880"/>
            <a:ext cx="0" cy="129564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8088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 Wiki: Structured (RDF)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, Standard Ma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y for Export/Harvesting  by Registries, Catalogs, Portals, Mashups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4440" y="16002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adata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6:21:42Z</dcterms:created>
  <dc:creator>sf</dc:creator>
  <dc:description/>
  <dc:language>en-US</dc:language>
  <cp:lastModifiedBy>sf</cp:lastModifiedBy>
  <dcterms:modified xsi:type="dcterms:W3CDTF">2008-02-12T10:51:29Z</dcterms:modified>
  <cp:revision>20</cp:revision>
  <dc:subject/>
  <dc:title>Slide 1</dc:title>
</cp:coreProperties>
</file>